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220A-04B7-4495-AE73-425AE6E3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E9C-ED99-4EE1-A786-7081BFB3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733-C570-4606-BCF4-84410E67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500-224B-459D-9C18-03AD32CF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EBB-677A-44F7-92DB-0BF3FDF5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B8A-B375-49D0-8EBE-70681F5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51C-7D30-47DA-A7F4-08428F79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8CD-AA06-4CDA-92C9-2C4B0756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594F-BBA7-472D-BB2B-1ED9FB0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281-19BE-4787-93F8-81F385D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115-E21D-4BE6-B1BD-95038F3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3B6-0DC2-45A5-92FE-285C46B6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1618-C0A7-496E-9281-8015405361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How can we show that plants use carbon dioxide in photosynthes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_caroliniana_fish2u"/>
          <p:cNvPicPr/>
          <p:nvPr/>
        </p:nvPicPr>
        <p:blipFill>
          <a:blip r:embed="rId1"/>
          <a:stretch/>
        </p:blipFill>
        <p:spPr>
          <a:xfrm>
            <a:off x="3419640" y="2637000"/>
            <a:ext cx="2678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 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nv0072"/>
          <p:cNvPicPr/>
          <p:nvPr/>
        </p:nvPicPr>
        <p:blipFill>
          <a:blip r:embed="rId1"/>
          <a:stretch/>
        </p:blipFill>
        <p:spPr>
          <a:xfrm>
            <a:off x="108000" y="2924280"/>
            <a:ext cx="8820000" cy="1982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50920" y="1916280"/>
            <a:ext cx="20890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asing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877080" y="1844640"/>
            <a:ext cx="19429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reasing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564000" y="1916280"/>
            <a:ext cx="16574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mospheric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7812000" y="2708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H="1">
            <a:off x="323640" y="2708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C_caroliniana_fish2u"/>
          <p:cNvPicPr/>
          <p:nvPr/>
        </p:nvPicPr>
        <p:blipFill>
          <a:blip r:embed="rId2"/>
          <a:stretch/>
        </p:blipFill>
        <p:spPr>
          <a:xfrm>
            <a:off x="7524720" y="260280"/>
            <a:ext cx="903240" cy="1290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611280" y="5229360"/>
            <a:ext cx="82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179280" y="49417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 indicator is used to measure carbon dioxide levels in aquatic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red in equilibrium with atmospheric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becomes more orange/yellow with increased carbon dioxide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hanges from red through magenta to deep purple as carbon dioxide is rem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95280" y="145440"/>
            <a:ext cx="79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four transparent containers that can be easily sea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a standard volume of indicator to each container and in three of the containers, place equal length sprigs of pondweed e.g.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abo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l all the contain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 one with pondweed into a dark cup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 another containing pondweed and cover it with sh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 the three remaining containers (including the one with no plant in), the same distance from a bright white light source and leave until there is a noticeable change in 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sure the lamp will not cause your pond water to overheat. You might want to place a transparent screen between the light and the plant, or a flat sided container of cold water to absorb the heat but none of the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there is a noticeable change in color in the indicator, remove the shading and compare the colors in the four containers to those in the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189000"/>
            <a:ext cx="8496360" cy="175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Important Inform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en plants and algae use up carbon dioxide – removing it from the indicator as they carry out photo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.. they also produce carbon dioxide as they respire – all living things respire all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08080" y="456336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lor would the indicator go if you breathed out int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lor would the indicator go if the plant is respiring and carrying out photosynthesis at the same rate? 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the two times of the day that this is most likely to happen? NIGHT, DAWN, MID MORNING, LUNCHTIME, AFTERNOON, DU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912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 in bright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HOTOSYTHESIS  19263 copy"/>
          <p:cNvPicPr/>
          <p:nvPr/>
        </p:nvPicPr>
        <p:blipFill>
          <a:blip r:embed="rId1"/>
          <a:stretch/>
        </p:blipFill>
        <p:spPr>
          <a:xfrm>
            <a:off x="395280" y="14842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562120" y="3860640"/>
            <a:ext cx="6426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 with thin sh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ydrogen carbonate shade"/>
          <p:cNvPicPr/>
          <p:nvPr/>
        </p:nvPicPr>
        <p:blipFill>
          <a:blip r:embed="rId1"/>
          <a:stretch/>
        </p:blipFill>
        <p:spPr>
          <a:xfrm>
            <a:off x="468360" y="162864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2770200" y="4005360"/>
            <a:ext cx="63928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 in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ydrogen carbonate dark"/>
          <p:cNvPicPr/>
          <p:nvPr/>
        </p:nvPicPr>
        <p:blipFill>
          <a:blip r:embed="rId1"/>
          <a:stretch/>
        </p:blipFill>
        <p:spPr>
          <a:xfrm>
            <a:off x="250920" y="155736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124000" y="3665520"/>
            <a:ext cx="6902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20:54:42Z</dcterms:created>
  <dc:creator>Daniel Gilby</dc:creator>
  <dc:description/>
  <dc:language>en-US</dc:language>
  <cp:lastModifiedBy>Carl R. Pratt</cp:lastModifiedBy>
  <cp:lastPrinted>2013-08-11T15:51:10Z</cp:lastPrinted>
  <dcterms:modified xsi:type="dcterms:W3CDTF">2013-08-11T17:32:38Z</dcterms:modified>
  <cp:revision>20</cp:revision>
  <dc:subject/>
  <dc:title>How can we prove that plants use carbon dioxide in photosynthesis?</dc:title>
</cp:coreProperties>
</file>